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B91-4B8F-48DD-A4F8-150A5977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614-AC66-4631-8545-3484B1D7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765-315B-4EDC-9955-08142E2C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1B4-D3CC-49C8-84CC-7A23F839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A74-3773-4B65-B78F-DF806691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DD4-6BC2-463A-BFFC-ED237DFB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0AE-150F-4AC7-80D3-D77891A9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16D-03EF-4E62-AA25-EA1D5DE0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F17-5FA0-4356-8817-5E3FC796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110-D3FD-42D1-AE1E-B54772A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F9D-322E-48E5-8D3B-2FCF7A2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4D5-FD1C-4262-8B44-A2FE29A5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9E2D-18ED-41B2-9466-CABB99198B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wotourism.com/pizza-delicious-specialities-foods-from-italy/pizza-delicious-specialities-foods-from-italy-various-taste-of-pizza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4648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Las Comidas!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Por: Morgan Fr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Pizza, Delicious Specialities Foods from Italy - Special Foo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04920"/>
            <a:ext cx="2743200" cy="240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20090308pancakes.jpg"/>
          <p:cNvPicPr/>
          <p:nvPr/>
        </p:nvPicPr>
        <p:blipFill>
          <a:blip r:embed="rId3"/>
          <a:stretch/>
        </p:blipFill>
        <p:spPr>
          <a:xfrm>
            <a:off x="152280" y="1523880"/>
            <a:ext cx="3276720" cy="2183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581280" y="31240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010280" y="4038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3962520"/>
            <a:ext cx="2666880" cy="197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76720" y="1447920"/>
            <a:ext cx="274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ara el Desayuno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3276720" cy="22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760320"/>
            <a:ext cx="3200400" cy="2144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3962520" cy="1905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81280" y="1592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5440" y="1179360"/>
            <a:ext cx="16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a el desayuno me gusta comer el totsada con meil y caf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304812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 el desayuno me gusta comer panqueques con jarabe 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59436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 el desayuno me gusta comer tortilla de queso y ja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2133720" cy="2013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09680" y="495288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 el desayuno me gusta beber el jugo de naranj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743200" y="3276720"/>
            <a:ext cx="1905120" cy="1427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3429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 el desayuno me gusta comer el pastel de caf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l Amuerzo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BLT Sandwich"/>
          <p:cNvPicPr/>
          <p:nvPr/>
        </p:nvPicPr>
        <p:blipFill>
          <a:blip r:embed="rId1"/>
          <a:stretch/>
        </p:blipFill>
        <p:spPr>
          <a:xfrm>
            <a:off x="152280" y="1219320"/>
            <a:ext cx="2895840" cy="1930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2286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comer el tocino lechuga tomate bocadill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2933640" cy="20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5680" y="114300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comer las papas frit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010280" y="4495680"/>
            <a:ext cx="1905120" cy="22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53080" y="373392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beber chocolate con lech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28600" y="43434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365760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comer ensalada Caes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505320" y="2514600"/>
            <a:ext cx="2149200" cy="2476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05320" y="541008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comer las manza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l Cena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5181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ina me gusta beber cranberry y el jugo de man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667240" cy="1779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24382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ena me gusta comer bistec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236232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ena me gusta comer puré de papas con grav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2324160" cy="196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71800" y="3733920"/>
            <a:ext cx="33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ena me gusta co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as judías ver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095880" y="3809880"/>
            <a:ext cx="2619360" cy="1905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477120" y="586728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ena 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usta comer l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alsa de canber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1785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l Postre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6019560"/>
            <a:ext cx="68580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2362320" cy="2225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30492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ara el postre comer masa de galletas de hel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0" y="609480"/>
            <a:ext cx="1932120" cy="2895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9200" y="152388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ara el postre 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gusta beber </a:t>
            </a:r>
            <a:r>
              <a:rPr b="1" lang="es-ES" sz="1600" spc="-1" strike="noStrike">
                <a:solidFill>
                  <a:srgbClr val="00ff00"/>
                </a:solidFill>
                <a:latin typeface="Arial"/>
              </a:rPr>
              <a:t>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00"/>
                </a:solidFill>
                <a:latin typeface="Arial"/>
              </a:rPr>
              <a:t>chocolate bati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9:55Z</dcterms:created>
  <dc:creator>fryemor</dc:creator>
  <dc:description/>
  <dc:language>en-US</dc:language>
  <cp:lastModifiedBy>fryemor</cp:lastModifiedBy>
  <dcterms:modified xsi:type="dcterms:W3CDTF">2012-04-05T17:17:16Z</dcterms:modified>
  <cp:revision>4</cp:revision>
  <dc:subject/>
  <dc:title>Las Comidas!</dc:title>
</cp:coreProperties>
</file>